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1-</a:t>
            </a:r>
            <a:fld id="{FABFF0F8-8AA7-43C4-9833-756ED0AB55EF}"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1</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structional Progr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720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Requirements</a:t>
            </a:r>
            <a:endParaRPr b="0" lang="en-US" sz="3600" spc="-1" strike="noStrike">
              <a:solidFill>
                <a:srgbClr val="333399"/>
              </a:solidFill>
              <a:latin typeface="Tahoma"/>
            </a:endParaRPr>
          </a:p>
        </p:txBody>
      </p:sp>
      <p:sp>
        <p:nvSpPr>
          <p:cNvPr id="99" name="PlaceHolder 2"/>
          <p:cNvSpPr>
            <a:spLocks noGrp="1"/>
          </p:cNvSpPr>
          <p:nvPr>
            <p:ph/>
          </p:nvPr>
        </p:nvSpPr>
        <p:spPr>
          <a:xfrm>
            <a:off x="609120" y="1552320"/>
            <a:ext cx="8153640" cy="43830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s typically require medical examinations and certain immunizations as a prerequisite for school admiss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the state, through its police powers, shares a primary responsibility to protect the health and safety of students enrolled in public schools, they have been supported by the courts in establishing health requirements for public school stud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urriculum Standards</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al curriculum standards in public schools are established by state statute and poli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lmost all cases, certain courses and minimum achievement standards are determined through state poli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120" y="837720"/>
            <a:ext cx="8077320" cy="449604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school districts may establish other standards so long as they do not contradict state requir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courts are very reluctant to intervene in matters involving public school curricula based on the view that states retain the authority to establish curriculum standards so long as there is no federal constitutional infringement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courts are very reluctant to intervene in matters involving public school curricula based on the view that states retain the authority to establish curriculum standards so long as there is no federal constitutional infringement involv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llectual Property and Fair Use</a:t>
            </a:r>
            <a:endParaRPr b="0" lang="en-US" sz="3600" spc="-1" strike="noStrike">
              <a:solidFill>
                <a:srgbClr val="333399"/>
              </a:solidFill>
              <a:latin typeface="Tahoma"/>
            </a:endParaRPr>
          </a:p>
        </p:txBody>
      </p:sp>
      <p:sp>
        <p:nvSpPr>
          <p:cNvPr id="105"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llectual property covers four basic areas:  patents, trademarks, designs, and copyright materi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pyright Act prohibits unauthorized use of copyrighted material for profit or public display without appropriate payment to or permission from the copyright proprie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41160" y="990720"/>
            <a:ext cx="8197560" cy="4114800"/>
          </a:xfrm>
          <a:prstGeom prst="rect">
            <a:avLst/>
          </a:prstGeom>
          <a:noFill/>
          <a:ln w="0">
            <a:noFill/>
          </a:ln>
        </p:spPr>
        <p:txBody>
          <a:bodyPr anchor="t">
            <a:normAutofit/>
          </a:bodyPr>
          <a:p>
            <a:pPr marL="463680" indent="-463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pyright Act specified four factors that should be used to determine fair use:</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urpose or use relative to whether use is commercial in nature for non-profit, educational purposes.</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ure of the 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91440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mount of material extracted from the work in relation to the work as a whole.</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mpact of the use on the potential market in relation to the value of the copyrighted 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pying Computer Software</a:t>
            </a:r>
            <a:endParaRPr b="0" lang="en-US" sz="3600" spc="-1" strike="noStrike">
              <a:solidFill>
                <a:srgbClr val="333399"/>
              </a:solidFill>
              <a:latin typeface="Tahoma"/>
            </a:endParaRPr>
          </a:p>
        </p:txBody>
      </p:sp>
      <p:sp>
        <p:nvSpPr>
          <p:cNvPr id="109"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right laws also affect computer softwa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should not reproduce copies of software for students from an original program to serve as a backup cop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prohibited under the Copyright 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chool districts have purchased site licenses to provide protection for the use of softwa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license is essentially a contractual agreement with a software company in which a fee is negotiated for the use of educational softw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e contractual agreement, a reasonable number of copies may be reproduced for educational purpo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gal authority for defining the curriculum of public schools resides with the legislature.  </a:t>
            </a:r>
            <a:endParaRPr b="0" lang="en-US" sz="2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constitutional provisions in a few states, this duty is shared between the legislature and the state board of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ding and Academic Requirements</a:t>
            </a:r>
            <a:endParaRPr b="0" lang="en-US" sz="3600" spc="-1" strike="noStrike">
              <a:solidFill>
                <a:srgbClr val="333399"/>
              </a:solidFill>
              <a:latin typeface="Tahoma"/>
            </a:endParaRPr>
          </a:p>
        </p:txBody>
      </p:sp>
      <p:sp>
        <p:nvSpPr>
          <p:cNvPr id="113"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ments regarding progress from one grade to another typically are not reviewable by the courts unless there is substantial evidence of unreasonable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6512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udent Testing</a:t>
            </a:r>
            <a:endParaRPr b="0" lang="en-US" sz="3600" spc="-1" strike="noStrike">
              <a:solidFill>
                <a:srgbClr val="333399"/>
              </a:solidFill>
              <a:latin typeface="Tahoma"/>
            </a:endParaRPr>
          </a:p>
        </p:txBody>
      </p:sp>
      <p:sp>
        <p:nvSpPr>
          <p:cNvPr id="115" name="PlaceHolder 2"/>
          <p:cNvSpPr>
            <a:spLocks noGrp="1"/>
          </p:cNvSpPr>
          <p:nvPr>
            <p:ph/>
          </p:nvPr>
        </p:nvSpPr>
        <p:spPr>
          <a:xfrm>
            <a:off x="641160" y="14479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well established that the state has the authority to promulgate promotion and graduation requir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standardized tests are used to determine student competenc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measures are reasonable and nondiscriminatory, they will generally be supported by the cou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are provided considerable discretion in matters relating to appropriate academic requiremen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and large, courts do not feel equipped to evaluate academic performance issu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de Reductions for Absences</a:t>
            </a:r>
            <a:endParaRPr b="0" lang="en-US" sz="3600" spc="-1" strike="noStrike">
              <a:solidFill>
                <a:srgbClr val="333399"/>
              </a:solidFill>
              <a:latin typeface="Tahoma"/>
            </a:endParaRPr>
          </a:p>
        </p:txBody>
      </p:sp>
      <p:sp>
        <p:nvSpPr>
          <p:cNvPr id="118"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absenteeism by students poses a challenge for school officials who oftentimes resort to grade reductions as a means of limiting excessive abs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will generally support reasonable policies regarding grade reduction for excessive absences if they do not conflict with state statu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de Reduction for Unexcused Absences</a:t>
            </a:r>
            <a:endParaRPr b="0" lang="en-US" sz="3600" spc="-1" strike="noStrike">
              <a:solidFill>
                <a:srgbClr val="333399"/>
              </a:solidFill>
              <a:latin typeface="Tahoma"/>
            </a:endParaRPr>
          </a:p>
        </p:txBody>
      </p:sp>
      <p:sp>
        <p:nvSpPr>
          <p:cNvPr id="120"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rules that penalize students academically for unexcused absences, or truancy, are not uncomm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have been more supportive of schools on this type of rule than on one that mandates grade reduction based on general miscondu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Punishment for Poor Academic Performance</a:t>
            </a:r>
            <a:endParaRPr b="0" lang="en-US" sz="3600" spc="-1" strike="noStrike">
              <a:solidFill>
                <a:srgbClr val="333399"/>
              </a:solidFill>
              <a:latin typeface="Tahoma"/>
            </a:endParaRPr>
          </a:p>
        </p:txBody>
      </p:sp>
      <p:sp>
        <p:nvSpPr>
          <p:cNvPr id="12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punishment of public school students for failure to maintain acceptable academic standards has not received support by the cour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have consistently ruled against school officials for the use of physical punishment when the student’s behavior did not involve improper condu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80880"/>
            <a:ext cx="822024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holding Diplomas</a:t>
            </a:r>
            <a:endParaRPr b="0" lang="en-US" sz="3600" spc="-1" strike="noStrike">
              <a:solidFill>
                <a:srgbClr val="333399"/>
              </a:solidFill>
              <a:latin typeface="Tahoma"/>
            </a:endParaRPr>
          </a:p>
        </p:txBody>
      </p:sp>
      <p:sp>
        <p:nvSpPr>
          <p:cNvPr id="124" name="PlaceHolder 2"/>
          <p:cNvSpPr>
            <a:spLocks noGrp="1"/>
          </p:cNvSpPr>
          <p:nvPr>
            <p:ph/>
          </p:nvPr>
        </p:nvSpPr>
        <p:spPr>
          <a:xfrm>
            <a:off x="641160" y="1440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are delegated the authority to determine when a student has completed the required curriculum entitling him or her to be awarded a diplom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well established that when a student has met prescribed academic requirements for graduation, he or she must be awarded a diplo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gislature may, at its discretion, prescribe the basic course of study, determine testing, and graduation requiremen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most cases, state legislatures delegate curriculum matters to state boards of education and most importantly with local school distric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 calcmode="lin" valueType="num">
                                      <p:cBhvr additive="repl">
                                        <p:cTn id="13"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ulsory Attendance</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state requires children between certain ages, usually 6 or 7 through 16 or 17 years old, to attend public, private, or home scho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day, parents who willfully fail to comply with compulsory attendance laws fact criminal char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1">
                                            <p:txEl>
                                              <p:pRg st="0" end="0"/>
                                            </p:txEl>
                                          </p:spTgt>
                                        </p:tgtEl>
                                        <p:attrNameLst>
                                          <p:attrName>style.visibility</p:attrName>
                                        </p:attrNameLst>
                                      </p:cBhvr>
                                      <p:to>
                                        <p:strVal val="visible"/>
                                      </p:to>
                                    </p:set>
                                    <p:anim calcmode="lin" valueType="num">
                                      <p:cBhvr additive="repl">
                                        <p:cTn id="2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me Schools</a:t>
            </a:r>
            <a:endParaRPr b="0" lang="en-US" sz="3600" spc="-1" strike="noStrike">
              <a:solidFill>
                <a:srgbClr val="333399"/>
              </a:solidFill>
              <a:latin typeface="Tahoma"/>
            </a:endParaRPr>
          </a:p>
        </p:txBody>
      </p:sp>
      <p:sp>
        <p:nvSpPr>
          <p:cNvPr id="93"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ly every state in the nation makes provisions for home school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um standards for home schooling vary among the states based on the individual state’s compulsory attendance law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al standards for curriculum and instruction, length of instruction time, and the number of days in which instruction should be provided are generally prescribed by state statute or state board of education polic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uch requirements must be met by parents offering home instru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rter Schools</a:t>
            </a:r>
            <a:endParaRPr b="0" lang="en-US" sz="3600" spc="-1" strike="noStrike">
              <a:solidFill>
                <a:srgbClr val="333399"/>
              </a:solidFill>
              <a:latin typeface="Tahoma"/>
            </a:endParaRPr>
          </a:p>
        </p:txBody>
      </p:sp>
      <p:sp>
        <p:nvSpPr>
          <p:cNvPr id="9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ter schools are public schools that emerge through a contract with a state agency or a local school boar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ary advantage of charter schools is autonomy over their operations; they are relieved of rules and regulations that govern public school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exchange for flexibility, the charter schools are held accountable for achieving outcomes established by the charter, which includes student achievement as a primary go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6T14:33:45Z</dcterms:created>
  <dc:creator>cbrown</dc:creator>
  <dc:description/>
  <dc:language>en-US</dc:language>
  <cp:lastModifiedBy>T61Image</cp:lastModifiedBy>
  <dcterms:modified xsi:type="dcterms:W3CDTF">2013-09-16T22:56:50Z</dcterms:modified>
  <cp:revision>69</cp:revision>
  <dc:subject/>
  <dc:title>Legal Framework Affecting Public Schools</dc:title>
</cp:coreProperties>
</file>